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C16-DE1A-42C0-8985-7FB428EF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105-FB85-4334-B053-E14A9856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252-4C7F-49DA-81C3-7644A352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F2C-61E3-4B98-9AF3-780ED183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6EDF-88CC-4103-B149-44CC772A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55AA-6FBC-4A80-A60E-584ACDFA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D932-8F68-4B92-A21C-3C1D860C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1FDF-B59F-4287-BE6C-60229F59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C6D8-4A0A-4157-AE35-E7A36297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72C5-2775-4B5E-A247-8FB3FDD2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1163-6C6F-4566-A2B9-B37B4D36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B6D-68EC-497A-A18A-748090A9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5EEA-9F5F-407D-B127-62F4B2F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E651-1C70-48DA-8248-01EE6AAD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2D5D-BF54-4501-80D7-7077D4E4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7866-329C-434E-BC0C-959F1360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060F-221C-47CC-9DC3-DB497BD8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DA1-9BC7-4307-BDD3-B60C2828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6C0B-88DA-474D-A79C-E3C78255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9A1-F5E9-41DC-9178-995F708E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57B-D1E6-49A5-9DCB-747A980D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10D-844A-4CBF-889A-D2C7E8D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9A6-5DEF-4DE7-AB0C-C23DF5B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B6C-A8D0-4213-8942-70650EE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4A8E-03C7-46CD-810C-23646B6737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E4AC-FFE9-4224-B550-48642C9FCFD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2:  Sense of Self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ace and Ethnicit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 critic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o simpli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look the likelihood a person’s ethnic identity evolves and changes over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individual may be at more than one stage at a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 to explore the role of racism in the formation of ethnic ident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ulturation Theo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s labels or categories to describe how a person integrates their ethnic group identity with attitudes towards the larger soci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ue &amp; Su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Use labels in their study of the acculturation of individuals of Asian desc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ditionalist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rginal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ian American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ditionalist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248520" y="3124080"/>
            <a:ext cx="2133360" cy="2743200"/>
          </a:xfrm>
          <a:prstGeom prst="wedgeEllipseCallout">
            <a:avLst>
              <a:gd name="adj1" fmla="val -104837"/>
              <a:gd name="adj2" fmla="val -613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48520" y="3962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oreign bor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615120" y="2045880"/>
            <a:ext cx="1609200" cy="1394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ongly accepts parental cultural val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048120"/>
            <a:ext cx="2133360" cy="2743200"/>
          </a:xfrm>
          <a:prstGeom prst="wedgeEllipseCallout">
            <a:avLst>
              <a:gd name="adj1" fmla="val 84819"/>
              <a:gd name="adj2" fmla="val -1851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80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200" y="3352680"/>
            <a:ext cx="16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nd t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cializ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it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f their ow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thni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ginal 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435040" cy="24350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90920" y="1600200"/>
            <a:ext cx="2438280" cy="1981080"/>
          </a:xfrm>
          <a:prstGeom prst="wedgeEllipseCallout">
            <a:avLst>
              <a:gd name="adj1" fmla="val 13736"/>
              <a:gd name="adj2" fmla="val 69953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ants to assimilate into American 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1981080"/>
            <a:ext cx="2286000" cy="1981440"/>
          </a:xfrm>
          <a:prstGeom prst="wedgeEllipseCallout">
            <a:avLst>
              <a:gd name="adj1" fmla="val -63263"/>
              <a:gd name="adj2" fmla="val 5392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jects Asian valu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276720"/>
            <a:ext cx="2819160" cy="1981080"/>
          </a:xfrm>
          <a:prstGeom prst="wedgeEllipseCallout">
            <a:avLst>
              <a:gd name="adj1" fmla="val 65486"/>
              <a:gd name="adj2" fmla="val -256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nds to socialize with “Caucasian Americans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962520"/>
            <a:ext cx="2590920" cy="2209680"/>
          </a:xfrm>
          <a:prstGeom prst="wedgeEllipseCallout">
            <a:avLst>
              <a:gd name="adj1" fmla="val -75365"/>
              <a:gd name="adj2" fmla="val -29814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ittle ethnic identity associated with Asian 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an Americans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066680" y="3352680"/>
            <a:ext cx="2359080" cy="2359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200400" y="2438280"/>
            <a:ext cx="5105520" cy="2362320"/>
          </a:xfrm>
          <a:prstGeom prst="wedgeEllipseCallout">
            <a:avLst>
              <a:gd name="adj1" fmla="val -65175"/>
              <a:gd name="adj2" fmla="val -920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ave achieved balance and pride in their ethnic identity by combining traditional Asian values with Western influe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culturation Theory Criticis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hnic identity is oversimpl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s to consider such factors as age, generation and gender within an ethnic ident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bels may be limiting and demea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y contribute to stereotyping and overgeneraliz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an Self-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Christine Yeh and Karen Huang, 1996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 - studied factors unique to Asian culture resulting in an Asian ethnic identity that is unique form Europeans and North Ameri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ian Self-Concep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ian subjects more concerned about how their actions would be judged by family and commun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 strong interdependence between the individual and the community illustrates the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llectivistic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ure of Asian cultu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Loss of face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” is when one fails to fulfill the expectations they have of themselves – Shame that results from this is magnified since it is shared by the family. The consequence (usually exclusion) of this shame is particularly painful in a collectivistic culture – used as a negative rein forcer during child-rear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thnic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419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thnicit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the relation of an individual to a group with whom that individual believes he /she has common ancest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hared socio-cultural experie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rms include such examples as “French”, “British”, “Dutch”…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deo – ‘My Big Fat Greek Wedding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505320" cy="3163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27360" y="563868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thnic stereotyp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ac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Associated with common descent or origin of a group.  Usually characterized by physical traits.  E.g. skin colour, hair texture, eye sha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9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entury anthropological terms used to categorize human racial types (Negroid, Caucasoid, Mongoloid and Australoi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39463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6553080" cy="4182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47920" y="4952880"/>
            <a:ext cx="66294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t has no validity as a biological category in the hum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pecies… Scientific studies clearly demonstrate that huma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pulations are not unambiguous, clearly separated, biologically distinct grou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2362320"/>
            <a:ext cx="7391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7  (American Anthropological Association) Drafted a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tatement  regarding  the term “ra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26800" y="1109520"/>
            <a:ext cx="34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Race Continued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ace” Implic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ce” is a set of culturally created attitudes towards, and beliefs about, human differe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se attitudes and beliefs about “Race” (products of the 19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entury) led to prejudgments that distort our ideas about human differences and behavio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American Anthropological Association) completed its statement by saying that “present-day inequalities are not consequences of biological inheritance but rather they are the result of social, economic, educational and political circumsta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Ethnic Identity Form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concepts of ethnic identity develop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 they remain constant throughout a person’s lifetim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ored through the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tage Mode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oretical frame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mes ethnic identity develops as people resolve conflicts at different stages of their lif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licts at lower levels must be resolved before the next stage can be achiev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tkinson, Morten, &amp; Su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Proposed that minority identity development follows 5 stages (Study on American Minoriti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58128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form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388620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ssonan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411480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istanc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4419720"/>
            <a:ext cx="1447920" cy="1676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rospec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4800600"/>
            <a:ext cx="1447920" cy="1676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ynergisti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rticulati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waren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4419720"/>
            <a:ext cx="380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2670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502920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age Model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onformit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individual sides with dominant cul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issonanc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individual is confused over the conflic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sistanc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mmersion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vidual rejects the dominant system and accepts their own cultural traditions / cult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ntrospec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individual questions the values of both minority and majority cul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ynergistic Articulation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wareness 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dividual resolves previous conflicts and develops a cultural identity that combines elements from both cult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18:54:37Z</dcterms:created>
  <dc:creator>Administrator</dc:creator>
  <dc:description/>
  <dc:language>en-US</dc:language>
  <cp:lastModifiedBy>Customer</cp:lastModifiedBy>
  <dcterms:modified xsi:type="dcterms:W3CDTF">2010-09-24T18:09:18Z</dcterms:modified>
  <cp:revision>8</cp:revision>
  <dc:subject/>
  <dc:title>Unit 2:  Sense of Self</dc:title>
</cp:coreProperties>
</file>